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A66-C441-493F-80FA-5EBF8ABA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801-7DE4-4696-8712-7F00D71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D08-5014-4B62-8180-74818A6B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587-E7A8-425F-ACC6-83825F7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D22-631C-4B37-9F3B-75DECAE2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BF1-A59C-4D85-AFB5-DEA81A6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98A-73CC-4088-BB46-66295D2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97B-FF50-4DDD-A767-A2CD9C2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75A-9248-4372-B145-2A93D704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A3B-E092-4EAD-AD05-8F9D7BE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EC0-6C53-4398-8BF4-768193E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6FB-CD23-4FC4-A734-AB9BCB8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0EF-F9A9-481B-B51B-AF9BEFA8253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4438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67160" y="347760"/>
            <a:ext cx="375444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92880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نان فانتز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71500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4:33Z</dcterms:modified>
  <cp:revision>45</cp:revision>
  <dc:subject/>
  <dc:title>Slide 1</dc:title>
</cp:coreProperties>
</file>